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22C5-9212-49FA-AEFC-19F13CEB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DD1-6C94-415B-A0EF-C19D96BA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FD597-2977-49A9-9EF6-B035F5F3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E8287-C102-429F-8658-95A348F0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89EC9-5581-4629-A674-DE1D133F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5963D-159D-4AC4-BADE-35F29AB4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43631-5401-4BD2-AB0E-CC769CD7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44E52-7031-44BB-832C-2EF27B9F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73DB7-1DDA-47F8-8957-0F05A836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07A3E-3F80-4663-B6AE-AEE31AE9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64CE1-3B1D-44E8-8302-13969A6A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5E8FC-4DD2-442C-871A-CC0032EB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4473-C1CA-43EF-867C-74822959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1A4BF-D91F-496F-BCEE-0CBA0BED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40D81-FE83-4A13-B646-A9B248DD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43CCA-479B-4F19-81FA-1284F570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1986B-625C-41A5-B4D9-265841EB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74AC3-81A8-4F53-A544-B4614702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E14F4-41CD-469E-85BD-554ED96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13842-2AF2-491E-BF53-4376A272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AC492-5269-474A-8FA8-2EE483F7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7EC8A-15BD-462E-BE11-E1BC1989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A5EE1-0C21-498E-9586-A0A0562B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980-5CD7-498C-9FD3-4454E0FD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AF6E2-A7F8-481B-89FF-4F95EE1D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A6499-D3EA-4BF1-8AA5-7B606133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69A64-EBEF-4E91-9F9C-B79A5DB0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87F33-6152-4E9B-8333-F5B3C92D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9E0B0-6806-46A6-9AAE-0BD1A34B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ACAFE-0232-4D7C-99A1-DBBC1F83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77202-94F3-454F-975E-A259542F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28099-0882-4BBE-AA15-C66DC396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4E111-DCC7-4FEA-8F07-2F08118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0456F-91AB-43CD-9BE6-D448A55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E3D9-A540-4D10-A21B-4063A2F3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6FE34-2BBB-4695-BC0C-C3571901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B4BEB-80B4-4B1A-9BC8-40A7DCC6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8127F-CEFD-4E40-BA99-C094B9F5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914A4-DA4D-4E3E-8118-D01DDCB6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D7F19-E04A-4BC9-87B2-AFC8DF65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AF528-DEF1-4F2E-AD80-C3CDC53C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CD109-B26C-4584-9501-E76F19B5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5FBBC-1B85-4815-B643-BD12C8A0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CDE2D-4CD4-41D6-A816-90DA4F28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04CD85-BA43-41D9-9BB9-826305C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18D1-50D6-4AB5-94E8-FADA5E0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D98E4-3ED9-461E-8313-8D8CEECE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2BF41-3E41-41DC-80BC-F4AF2E2B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492C8-FF1A-4CAC-ABD2-0019F43B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2D77E-98EE-4259-89B3-B732F2E7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579C3-36C3-44E6-B301-1C839C61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9F34C-06C3-4468-8EDA-DBCE62F5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D6CDF-AECF-4614-8B0C-29B7B3F8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49DC8-CD10-41B7-B483-D4B9C5F5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4958C-B9FA-4D97-B627-459C6C09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F355B-608E-4AC9-857B-515C56B8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39FA-AA69-422C-AF1C-2C58C19C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4906D-BB92-4DD0-8E81-79828557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D021F-72ED-4FEB-8D09-F9415812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D3C260-8B04-4F4B-9AD6-2C7E87B3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46F59-06F5-4561-A08C-060C1B7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97E26A-E499-4163-8841-BF31F17E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DF99A-C73E-445C-A26B-95A5E2FE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5FCB0-A134-4F57-B118-5022C3B5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111DD-251E-4E44-91A2-4683571D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CD187-C93C-4976-A150-86614C1D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DF279-3C12-47EC-AD88-B9DDFC0F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D792-67C4-4A08-9D76-CEA9112E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12417-0572-43E2-9F17-C97D24F6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D852F-AD1E-496A-9D74-ADE955CB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78312-3FE7-480B-883D-57A14FB9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C36B5-A153-4B41-B337-D7E3D123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8B8A3-4E6D-4119-9DCE-52896E4B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9A925-8454-4F92-A038-857EAEE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0A4B0-3DB8-4D3A-B7DF-8ECC0CA4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BB354-4E1A-4C29-A3AB-A0293978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521DD-3F21-48A8-80B1-EA02D9A1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36360-94F0-422A-8022-9C25E464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6A3A-6E3B-42C7-BF02-E2240427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29B9C-9C27-4CD4-B892-35A2AE17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24C2B-B62C-42F8-A860-2A9D88C8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39DA6D-6B78-41AA-A0DB-79B21638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95E93-9973-4AEB-AD97-28C6B570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40D6D-09BA-4C68-AE5C-6173B0A4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A100A-AEBA-4760-98E3-BD3137E8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FE1DE-EB73-4B21-8C24-86D0A705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A697CD-605C-48B2-9596-A0A2FD5E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110F9-F50F-4B99-B165-FC52CD84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396B2-A1C0-4427-A681-F9098708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1C68-FE16-4712-B230-4D84099F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2FB96A-265D-41F5-A708-5D0A0CEF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B1038-2F74-45F2-955A-0AF836FF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124D0-F0F8-404B-9360-24787E54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9C983-4A5D-4F46-8FB2-CA3E8839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2B1E61-EF26-4524-8832-B93866B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36BD43-E9DE-41EA-94DF-E81370F4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6139B-3E31-4FF7-BD8C-95AAB8D3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6AC85-FE3C-4561-AFCA-26AAC422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086D83-620D-4924-8D66-4082CBA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ABD4E-0616-46D6-AA7F-592AED21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3311-FD49-4F6F-B014-F594F1B6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94108-15E2-4020-9068-183BF689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6DE67-27F9-4494-BDCE-91AC152D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E0712A-07EA-45DA-9702-ECE36A19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CDFC5-6E6B-4EBB-9088-485EB9CE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8EC59-53F3-4FD2-9B1C-C39DBDF4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E6B4A1-40A8-4073-A530-7B9BF70C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B04BB5-4173-46A1-BC17-CEBA76C4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D3462-13C9-4BDC-AD00-4A00125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5B5B6-B8C5-478C-B08B-D39A73CA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B9501-6BC0-4426-A0B6-3F15CC05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156-ED36-482A-9F33-1C42EE26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10EC-2240-4467-90C0-373E9786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4EEA0-A028-4A75-B1E4-3DD6EB8B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1DDA9-9BD6-473D-8930-DCAB4AEF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4C3DC-813A-45D4-A891-5F17B0D2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10A5EB-3DA7-4FC2-AC0E-B186D271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71C03-3687-42B7-8D1C-BD36407F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155A9E-D4CC-4F74-8781-4E1246CE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C8AD2-D3EE-432F-B6C6-F4DD9416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77822-5853-4C12-A9B6-9D3D485B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8E3D7-0142-47DA-AC48-B4B7E0D6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0A0D3F-9B1D-4056-BCA9-9F7E4F25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0EFE-03A8-4699-8FB0-9C3BFF7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0ACC74-AAAA-4C75-BD9F-82CDC314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A66876-FD11-4C16-9243-79B69890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05A90-7775-45D4-9EA0-9CA4AD3D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06F96-8AEF-45F8-B89C-B875936D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CDAB60-E032-4066-BF3E-D58EDD64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37EEA3-B9FF-4112-B974-E858A212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E7BB4A-1FED-45A9-8DD1-657252B8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E84F69-BD20-483F-8DA1-CB3B452D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310D4-DE7D-492F-90C6-757993DA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0A0D2A-73D6-4A16-A4DE-AE291BFC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D408-219A-4423-A723-83CED663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E684D-CAD9-4A27-B386-BB746B89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212B9-927D-45E3-AD9A-2257FE9E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61629-2119-4125-85C5-D377B7CE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728402-8FCD-406E-B3DE-C724377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718AD8-4AED-49E3-BC2B-74740451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D7349-08E0-4E82-A967-A6CE7CC4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B57028-6964-4C9D-8ACC-47607EB9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107EFC-772E-4739-8424-8350B96D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926B9E-D4D7-4975-91E4-3361D476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A360D-3FA9-4C41-B069-603A0C67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C20C-5105-4400-A329-7ACC55D1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5DDC2-41B0-4660-B101-50167223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528283-E21E-4E16-A33D-582C0BD1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1C04DC-F025-4483-BAD5-9222ADCC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273E4-6E10-478F-9C08-141990A4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AC3CA7-BBEB-4C54-B7C3-773FF7BE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4E9F7-9FB8-41E0-84B8-AC90D9B2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64D79E-63E0-48BC-A74F-34ABBFA6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B1D59-6F9B-46F7-9D14-36461D4D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97328-06A7-44E8-BD07-A004B54B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281029-8D65-4AE9-8BB3-E4D8930A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9DA6-37F5-43AD-B728-EFEACB61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782987-5339-468F-ABA2-61F97F48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F2557-56CF-46B7-BB84-BAE4078E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6A8B90-D494-4154-A3EE-245A0BB2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0503BB-54EA-4C29-9169-E26592D7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817C4F-7403-4379-9955-15E67354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3F074E-C329-4279-8A59-C1A47485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C07E07-BF62-44DF-85BB-A4B7B1F0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7638E5-A0FD-49B5-A818-202C8C3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1CD32-7CD5-4EFA-AAA1-BDC70945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9FDD3B-9A42-4B93-B5CD-4E83E4BA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BB7D-911E-49C8-8CF6-8A4DA031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D7672D-C083-4B1A-8570-B38385BA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AA94D2-522E-4262-9E4D-F54710D8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902544-C62C-40B7-957D-89A5293C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FB84-04E3-4FCF-B442-BB73B9C4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BDF3B-2369-40AB-97C4-A2B5B896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CECA-CDDA-4C25-BD8D-FC42E135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81CA0-7843-4F6B-A291-3D82B9C6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3BB-48E3-4E20-BF92-560CA71D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06892-91C1-4FD0-8FE3-ACFAED52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0722-C3B0-4A53-A582-F91E45E9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3856-544F-4372-B055-1A32523B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A3028-54F3-4BBF-8610-ED940501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19385-4F1E-435A-8361-EA308224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C33E-5CB6-46B9-9302-C0F51D42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11C9C-3503-4ACF-91C8-566800F4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008F-9592-4180-B44B-4B24EBF9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7D10-8C09-4553-97C8-383581F6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DC5F0-25A4-4693-A92D-E1430F53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C10-18AA-40FA-8C92-91E444BA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7FC00-C7B2-45D4-B8BA-EAC462A8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1B4FE-2DAF-49DF-88FE-90F406D1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DCC11-429A-4C04-8AC4-BBF25FEE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94F3-343A-45E0-A675-8E4507CE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B71F-38A2-473B-A325-B8A97BD8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27EF-B2D3-4BBE-BD09-66F8004D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418C2-08A3-46A7-8E04-71B884D2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4580-685C-46B1-B7B1-E9678B39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5D56-D0EF-49B2-8B42-B58BD4F2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A12E7-0532-4299-A91F-C8EE9504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9DE-EF4A-4C6D-934F-32460408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E9D92-FF70-4DD2-BCD8-0675FD70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613E7-0C83-4BE2-8639-D1B38BAF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9558-EB6B-406C-BCB9-3B4BDE40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BA33E-C31C-414F-B779-26DD6400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BB063-6515-4EB3-996C-B7016C55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DAF22-B464-482E-8674-64B7E2C2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B656F-4016-4932-AAF3-DE2AC890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98F4B-4474-4F46-88FA-F2E69CC0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FC34-2048-4127-AA3B-E328B5FF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7197-4FEF-44AD-A5D3-38210A5E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2D6-A51D-4758-AC13-CE2F1806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EB4E-8458-4813-B8A8-F4AC0E02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A6115-18A3-41FF-AF1C-37A9A31D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86AC3-DD49-47C1-A28B-5C1FB147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75E8B-0C27-4CBF-BE1F-D5CB7782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B8E6E-C7F8-4422-AB51-755FFB70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DF1B-54D6-49FD-894B-98ABA397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1B5CE-2457-4A4B-83A3-9EB7B498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A97C1-859B-4054-B1B4-0785951A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28911-59AC-4650-92C0-33765EB2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C2EA9-F824-452D-B00B-3B41F9C9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64D5-7CB4-4190-8535-3BF993C8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A00CF-142E-4350-B888-C4E7FE7F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2B05E-B787-4EE9-B275-FBB66A17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46B63-F204-4104-BC92-F02B4362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8B16A-50F7-4DBD-A0F1-D8FA8043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23ED7-C63E-49A7-BF20-608D4FEE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F0D29-CE7B-4426-A8B1-2E1BEC3F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AA1DA-5376-450B-A3E1-519CF533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D3D7-0AC6-46E4-A65F-82E1E91A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20F6D-AC61-4831-A051-9183D128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888ED-F31D-4ECB-9D29-386756F5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D5C-5634-49A9-8C5D-6273F777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4F53B-7AA5-4E94-B221-9D28F63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20681-7062-4573-A820-B9C238D9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0F4E6-34FD-4D24-9E40-E088092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DE90-1694-428C-BDDA-45E93EB7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8E574-0DD5-4A7B-A877-3F34D0B1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095CF-EEBB-4194-B0C4-E00F6848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AD8AB-F7E4-4DA4-AAA7-395F5D56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2DD0D-20D6-4182-A744-0DA60FDB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06FA-D220-4178-9F81-CFCE983A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0C427-0053-46D9-AB96-39227D94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65E-8505-4645-9E06-F0B11BCA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49218-18B6-4E45-B210-F65C05E1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5A3AE-530D-43AC-A505-4F0875C3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24F1F-6DD3-4230-8C0E-400E10C0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897BF-CA91-475E-B28F-D230484F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235D4-A52F-4FCE-809F-A75BDB1C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CC59F-8655-4251-BB94-378076216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1433F-C995-472C-A927-68A36AD6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B353B-13CD-4E34-BEC7-597B3E5E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6654B-6C48-48B7-8112-97482F91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759BC-C33D-4C4A-BF5C-3B6A74A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3DA8-DFBA-450A-BBEE-88091B6D23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A6E3-0163-4063-81F9-5F1D793AE2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762-A3A1-4C78-97D2-A352434F1E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7288-7BCD-4E93-AFEA-41E2C6F92D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45C3-918B-401E-8E3F-D724EA1ACD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D417-84AA-4A75-81E4-09DEA7949F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4681-AD4B-4D26-803E-52A582E862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997C-C800-489B-A18A-D3C03C39F4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DEB6-2530-40E4-9664-EF939F1A2E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FD64-9B53-4FE8-AEB2-CADD476558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AE63-D3FB-47D0-8979-B15772E87B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7F7A-A11C-40C1-BCA1-5F155FDAA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B2C-D968-41CC-A579-47535C9AA3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4B66-994E-45A2-B0A7-251261DE8F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E29B-42D2-4EC9-B1EA-61FE1D580A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F518-A7CA-4F01-B766-1EEE8C784E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347C-6F28-47F8-B73D-9AB3790FAA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A7BC-246B-4E9C-844D-9160D42EF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FEB2-27E5-4A87-A0C1-612CCE096A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26B6-B080-415D-90FA-2C44E72291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6DAA-947C-4136-9C19-9C590E8728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9CF-1A58-4101-81B2-4E77F846E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9862-1E19-4786-B5FA-D96DD5B6E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8750-11CD-469D-ACFD-93FE9EC00B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7A79-0F64-42E3-B32F-71388CBC4E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FBF7-F288-4EC8-9A41-7DF2E8F2E7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2014-01BB-4280-AAD0-3164E0DE8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1E19-CD0D-481C-B419-06FA1F9F3F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6685-11C6-49A1-892E-3A478AE0E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07DE-1C59-460B-B0B2-0DBA10CCC6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043E-3F3C-47C9-9A10-37F27DEF3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01E1-49AE-42FD-B223-B09644520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D3C0-DDE7-4EE5-BB8C-1356D6E3F8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15F0-D85A-465A-81C4-FD7868FF3E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9467-02A1-4220-B4A9-8FB9805777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3A2-A0AF-422E-9AC7-C791A835F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98FA-6F6D-4D78-8853-9D68F95C95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D741-214E-40D0-AEDD-D69737FA33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AE19-4FC0-4CED-AEFD-A6BEF869AF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CF2A-F025-4D69-B33D-0981A0AA0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52480" y="2614680"/>
            <a:ext cx="5639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28680" y="885960"/>
            <a:ext cx="8486640" cy="50860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03280" cy="936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443640" y="2421000"/>
            <a:ext cx="865080" cy="936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47920" y="3386160"/>
            <a:ext cx="600120" cy="649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132000" y="4105440"/>
            <a:ext cx="600120" cy="6490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524720" y="4076640"/>
            <a:ext cx="600120" cy="649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716360" y="4724280"/>
            <a:ext cx="600120" cy="649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979640" y="5445000"/>
            <a:ext cx="10080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09480" y="885960"/>
            <a:ext cx="7925040" cy="50860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732720" y="1557360"/>
            <a:ext cx="12967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5508720" y="3500280"/>
            <a:ext cx="1079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2340000" y="414972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6372360" y="544500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333360" y="600120"/>
            <a:ext cx="8477280" cy="5657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7164360" y="119700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7813800" y="422100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7812000" y="5776920"/>
            <a:ext cx="719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611280" y="1200240"/>
            <a:ext cx="7905600" cy="402912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7353" descr=""/>
          <p:cNvPicPr/>
          <p:nvPr/>
        </p:nvPicPr>
        <p:blipFill>
          <a:blip r:embed="rId2"/>
          <a:stretch/>
        </p:blipFill>
        <p:spPr>
          <a:xfrm>
            <a:off x="684360" y="5229360"/>
            <a:ext cx="7905600" cy="11808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766764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7596360" y="3213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7596360" y="45086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7667640" y="59500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6324" descr=""/>
          <p:cNvPicPr/>
          <p:nvPr/>
        </p:nvPicPr>
        <p:blipFill>
          <a:blip r:embed="rId1"/>
          <a:stretch/>
        </p:blipFill>
        <p:spPr>
          <a:xfrm>
            <a:off x="257040" y="927000"/>
            <a:ext cx="8629920" cy="5238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460872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460836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755640" y="5013360"/>
            <a:ext cx="46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826920" y="5675400"/>
            <a:ext cx="5689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5300" descr=""/>
          <p:cNvPicPr/>
          <p:nvPr/>
        </p:nvPicPr>
        <p:blipFill>
          <a:blip r:embed="rId1"/>
          <a:stretch/>
        </p:blipFill>
        <p:spPr>
          <a:xfrm>
            <a:off x="457200" y="371520"/>
            <a:ext cx="8229600" cy="61149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1763640" y="3860640"/>
            <a:ext cx="6985080" cy="863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1476360" y="4984920"/>
            <a:ext cx="6985080" cy="863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1476360" y="6021360"/>
            <a:ext cx="34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690480" y="1209600"/>
            <a:ext cx="7763040" cy="4438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755640" y="3875040"/>
            <a:ext cx="806436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755640" y="4581360"/>
            <a:ext cx="475308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611280" y="5172120"/>
            <a:ext cx="5113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2231" descr=""/>
          <p:cNvPicPr/>
          <p:nvPr/>
        </p:nvPicPr>
        <p:blipFill>
          <a:blip r:embed="rId1"/>
          <a:stretch/>
        </p:blipFill>
        <p:spPr>
          <a:xfrm>
            <a:off x="368280" y="4076640"/>
            <a:ext cx="8524800" cy="189540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5223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34320" cy="19242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42764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7308720" y="17733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7308720" y="263700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7"/>
          <a:stretch/>
        </p:blipFill>
        <p:spPr>
          <a:xfrm>
            <a:off x="1893960" y="4221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8"/>
          <a:stretch/>
        </p:blipFill>
        <p:spPr>
          <a:xfrm>
            <a:off x="1908000" y="522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9"/>
          <a:stretch/>
        </p:blipFill>
        <p:spPr>
          <a:xfrm>
            <a:off x="500364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0"/>
          <a:stretch/>
        </p:blipFill>
        <p:spPr>
          <a:xfrm>
            <a:off x="4859280" y="508464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1"/>
          <a:stretch/>
        </p:blipFill>
        <p:spPr>
          <a:xfrm>
            <a:off x="8244000" y="422100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2"/>
          <a:stretch/>
        </p:blipFill>
        <p:spPr>
          <a:xfrm>
            <a:off x="8172360" y="5056200"/>
            <a:ext cx="5032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19:0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